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9C7-E88C-4C41-ADB1-6B2B8C3C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767-63A0-4F2F-8E5C-1472475A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EBB-8A0B-4697-B206-650B7C87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BC5-C365-4C7B-805F-5DAD01F2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DC4-5A65-41C6-B1A0-D83195EA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991-471A-4FC1-B8AD-47F8C06A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ED2-6FA4-4CEA-ADCC-58B858AB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127-366D-4147-AAF6-E3745415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0BA-D048-49B9-8383-07BDB283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B6F-21CD-4E43-8389-4F0C4872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D05-D9D6-40A1-9616-843E5DE0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30D-B52C-46E2-AE37-884A6126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5941-A8D8-4FD4-A111-7D8855B2E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adikal.ua/data/upload/c2184/ba193/bab3ee7fc8.jpg"/>
          <p:cNvPicPr/>
          <p:nvPr/>
        </p:nvPicPr>
        <p:blipFill>
          <a:blip r:embed="rId1"/>
          <a:stretch/>
        </p:blipFill>
        <p:spPr>
          <a:xfrm>
            <a:off x="0" y="639720"/>
            <a:ext cx="3998880" cy="513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19280" y="713880"/>
            <a:ext cx="5832360" cy="40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4040"/>
                </a:solidFill>
                <a:latin typeface="Calibri"/>
              </a:rPr>
              <a:t>Валерий Чкалов-</a:t>
            </a:r>
            <a:br>
              <a:rPr sz="4400"/>
            </a:br>
            <a:r>
              <a:rPr b="1" i="1" lang="ru-RU" sz="4400" spc="-1" strike="noStrike">
                <a:solidFill>
                  <a:srgbClr val="404040"/>
                </a:solidFill>
                <a:latin typeface="Calibri"/>
              </a:rPr>
              <a:t>легендарный </a:t>
            </a:r>
            <a:br>
              <a:rPr sz="4400"/>
            </a:br>
            <a:r>
              <a:rPr b="1" i="1" lang="ru-RU" sz="4400" spc="-1" strike="noStrike">
                <a:solidFill>
                  <a:srgbClr val="404040"/>
                </a:solidFill>
                <a:latin typeface="Calibri"/>
              </a:rPr>
              <a:t>лётчик-испытатель,</a:t>
            </a:r>
            <a:br>
              <a:rPr sz="4400"/>
            </a:br>
            <a:r>
              <a:rPr b="1" i="1" lang="ru-RU" sz="4400" spc="-1" strike="noStrike">
                <a:solidFill>
                  <a:srgbClr val="404040"/>
                </a:solidFill>
                <a:latin typeface="Calibri"/>
              </a:rPr>
              <a:t>Герой Советского Сою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1928880" y="642960"/>
            <a:ext cx="5286240" cy="517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12.jpg"/>
          <p:cNvPicPr/>
          <p:nvPr/>
        </p:nvPicPr>
        <p:blipFill>
          <a:blip r:embed="rId1"/>
          <a:stretch/>
        </p:blipFill>
        <p:spPr>
          <a:xfrm>
            <a:off x="1143000" y="928800"/>
            <a:ext cx="6730920" cy="33271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785880" y="44290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рий Чкалов погиб в 34 года 15 декабря 1938 года при проведение испытательного полета нового истребителя    «И-180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ронен Валерий Павлович в Москве, урна с его прахом лежит в Кремлевской ст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389480" y="1773360"/>
            <a:ext cx="3817800" cy="4241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л2\Desktop\4503599644682815_f8fb.jpg"/>
          <p:cNvPicPr/>
          <p:nvPr/>
        </p:nvPicPr>
        <p:blipFill>
          <a:blip r:embed="rId2"/>
          <a:stretch/>
        </p:blipFill>
        <p:spPr>
          <a:xfrm>
            <a:off x="650880" y="2349360"/>
            <a:ext cx="34894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25600" y="476280"/>
            <a:ext cx="6756480" cy="14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Валерий Павлович Чкалов родился 2 февраля 1904 года в слободе Василёво Нижегородской губернии, в семье мастера-котельщика. Окончил сельскую школу, затем техническое училище в Череповц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rcRect l="40390" t="36121" r="4614" b="21921"/>
          <a:stretch/>
        </p:blipFill>
        <p:spPr>
          <a:xfrm>
            <a:off x="1547640" y="1916280"/>
            <a:ext cx="6291360" cy="3600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2441160" y="5516640"/>
            <a:ext cx="518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м, в котором провел свое детство  В.Чка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765000"/>
            <a:ext cx="4114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семи лет Валерий пошел учиться в Василевскую начальную школу, затем - в пятиклассное училище. В 1916 году по окончании школы отец направляет его на учебу в Череповецкое техническое училищ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726080" y="1628640"/>
            <a:ext cx="4321080" cy="3102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4686480" y="4913280"/>
            <a:ext cx="43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реповецкое техническое учил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Сейчас Череповецкий лесомехан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ехникум им. В.П. Чкал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09320" y="119556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енью 1919 года Валерий вступает добровольцем в Красную Армию. Он стал работать слесарем-сборщиком самолетов в Канавинском авиационном парке в Нижнем Новгор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932360" y="642960"/>
            <a:ext cx="3924360" cy="562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58920" y="4132080"/>
            <a:ext cx="712944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1921 году настойчивыми просьбами Чкалов добивается путевки в Егорьевскую авиационную теоретическую школ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 ее окончании в 1922 году был переведен в Борисоглебскую авиационную школ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908000" y="157320"/>
            <a:ext cx="5154840" cy="378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26920" y="90792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924-28 годах Валерий Павлович служил   в 1-й краснознаменной истребительной эскадрилье в Ленинград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59280" y="3068640"/>
            <a:ext cx="4867200" cy="288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4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оябре 1930 года В.П. Чкалов  был зачислен на работу летчиком-испытателем в Московский научно-испытательный институт ВВ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два года работы в НИИ Чкалов совершил более 800 испытательных полетов, освоив технику пилотирования 30 типов самоле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214280" y="2286000"/>
            <a:ext cx="6643800" cy="4113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калов – автор новых фигур высшего пилота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л2\Desktop\восходящий штопор (2).jpg"/>
          <p:cNvPicPr/>
          <p:nvPr/>
        </p:nvPicPr>
        <p:blipFill>
          <a:blip r:embed="rId1"/>
          <a:stretch/>
        </p:blipFill>
        <p:spPr>
          <a:xfrm>
            <a:off x="542880" y="1627200"/>
            <a:ext cx="403560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л2\Desktop\восходящий штопор (1).jpg"/>
          <p:cNvPicPr/>
          <p:nvPr/>
        </p:nvPicPr>
        <p:blipFill>
          <a:blip r:embed="rId2"/>
          <a:stretch/>
        </p:blipFill>
        <p:spPr>
          <a:xfrm>
            <a:off x="4645080" y="1627200"/>
            <a:ext cx="403524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003640" y="4797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Восходящий штоп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971640" y="4869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Замедленная б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357440" y="1000080"/>
            <a:ext cx="43290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375 километров пройденного пути - таков итог этого перелета. За этот подвиг Чкалов, Байдуков и Беляков были удостоены звания Героя Советского Союза, награждены орденом Лен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928960" y="3857760"/>
            <a:ext cx="4549680" cy="2170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7f16bcac2ce6483798c77b3722a.jpg"/>
          <p:cNvPicPr/>
          <p:nvPr/>
        </p:nvPicPr>
        <p:blipFill>
          <a:blip r:embed="rId2"/>
          <a:stretch/>
        </p:blipFill>
        <p:spPr>
          <a:xfrm>
            <a:off x="1571760" y="714240"/>
            <a:ext cx="27860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19:17:00Z</dcterms:created>
  <dc:creator>Пользователь</dc:creator>
  <dc:description/>
  <dc:language>en-US</dc:language>
  <cp:lastModifiedBy>л2</cp:lastModifiedBy>
  <dcterms:modified xsi:type="dcterms:W3CDTF">2019-10-16T07:42:35Z</dcterms:modified>
  <cp:revision>28</cp:revision>
  <dc:subject/>
  <dc:title>Валерий Павлович Чкалов</dc:title>
</cp:coreProperties>
</file>